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6CB-B72E-48EB-8B90-C6E1486E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B3D-AB27-4882-9F9F-EDF3DDA8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F61-803D-498D-9B10-30B36D81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87C-E4CE-4F86-A20A-174285CB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BDF7-64B9-4547-A4EB-6DCD0C44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4DDD-D423-4CF0-80AC-14BD5EEB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9D62-C0CF-4251-8D5D-32DF8612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F96B-4665-4387-B94B-4E568EA4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6581-96F0-4DC0-8BD2-76159834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D06B-4425-4E56-B061-02FBBCAF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5CB5-CB46-4428-92D1-8EB60251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978-3AF5-4261-ACBF-54A4103D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2E5B-FB0B-4DE7-8370-80FB0E4C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67D7-148E-45D7-A3D3-D70058E2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12E8-4D38-4BE0-B6D5-1825338D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6D42-6A18-4B59-B6B9-C7F6E2E7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54FA-4D8C-40AE-9B09-C9ED83D6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922F0-13D3-4CC7-8228-BC99B635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9C7ED-74F7-4489-954D-73D3CF07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E0738-E768-4625-A5AA-AE4AEF4F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10EF4-23DE-41A7-9D8B-2DE462BC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6298E-0C38-413E-8310-4151F547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45D-87B0-4376-A37D-92E09E9B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C68A9-8B0A-4FF7-8FD8-25123587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4BDE4-737A-41B7-A96F-9F9952DA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AAC8C-2232-466A-96E2-5E870108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4B8FC-1D63-417A-B8EF-D8D6118E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B26C2-9C41-40F0-A264-3E8C41DF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21F95-EA36-4A69-9402-0A077057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BB987-E4A1-4C75-9B0D-8D496721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C784-7A63-4AD1-A77E-CC1CB9E6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FE21A-561F-4CE7-99F0-ACE3D503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F2D85-A632-4C77-92D8-FDCC4C30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DB5-09B9-4430-AFF9-5CD2EA38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A0E8A-0737-45CA-8171-A8D62E90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1E67B-9033-41EB-9036-692881B2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3C2D-BD62-4AD6-BE8A-9E4B4F84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9DAB-3BE3-4B57-A210-1FCD17DA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DFA79-9B91-42C9-BAE3-2966B7AA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ABFE4-AD3D-4785-B113-4D02BC49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8BF3-11F5-45AB-BE5E-1B0C6C92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A0FA3-69F7-4FC8-B03F-2EDF13FF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5E4CC-88D8-4046-8752-0754B661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9B294-B800-474A-94C4-5A1169F5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17C-42AA-4F52-9A2C-72D97EED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3FC77-C3D6-409D-B221-58FE18CA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D2398-2544-49B1-80E0-13A07B17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63DB6-3314-4850-A559-6437CCA7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EFC7B5-6C85-4889-A6A7-54F009E1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514C7-AA1B-459E-B009-2990633B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A7236-B21D-408A-BC3D-EDB3A8AC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63206-A108-4DE9-8E82-7CB5546B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92380-1B4C-42E0-8251-EB8B6BD1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3D338-5270-42DC-A92A-DAA30EDB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E0E37-93BB-4DF1-9C97-AC12F9AE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CA4-95C5-447F-86D4-9E1BA8A4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C91D5-D878-4105-A40F-2605DDD4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17E31-48AA-4872-BB6F-097402F5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B233F-41B8-47D0-8210-83C684C6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5F879-D1C6-4DF6-8FB1-B9A7074F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C6773-3776-4DC5-8DC1-89E72CD3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BF071-FC72-4FA9-BDD2-64B30569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F66AB-DDAB-4B24-9B21-44F73D4A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4EF74-A544-45BC-9D44-55F0776D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4021E-1629-48F0-AA13-ECEFBDFC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793C0-06F3-4047-8C7B-B2CA87E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DE1-A672-4243-AEAB-4B36F543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E2103A-3D9A-4983-BDDE-A4E1A041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6DC1E-7A2B-49CF-8979-9BF13497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E18D0-191D-4F4D-B3C3-A01BD641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66E73-B38E-480D-BCEA-2E65FA1F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80F44-742C-4CBB-A204-C9AEDFB4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8638C-8B58-4105-86E2-703F3A53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FC93A-41B9-4AB5-B40C-2A7CD777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BB595-4C52-4FB5-B463-D2994834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6487A-7AB9-4CFE-AD34-CB13A8AF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9E47C-0DE7-460B-A53B-14060E6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601-59F4-4996-9DAA-AEED5F55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E2A50-5FA2-4BE2-8FAF-DC6BDB83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E6A83E-D41F-452F-B714-5009EEAE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3986F-E261-4DED-A311-BFFA6D84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FACB9-3F92-407A-A737-DC0FA1EB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912D13-CA1E-40DC-88E5-A008FDDF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03A-532A-4DCD-A3D9-5A5760E4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2577-CDA4-47F7-87B9-5950459846C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3A14-8F90-40A4-BB99-4D73306184F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7454-A82B-4FDC-91A7-051749402B1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6467-F1CE-441A-9E15-30604869A07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FEB4-FAAC-4701-9E6C-3389EFDCBB0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D501-A86E-4E14-BC96-45219233663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0EC9-FFA9-4D16-93D6-E94C6127BE5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1360" y="714240"/>
            <a:ext cx="781524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3495c"/>
                </a:solidFill>
                <a:uFillTx/>
                <a:latin typeface="Century Schoolbook"/>
                <a:ea typeface="Times New Roman"/>
              </a:rPr>
              <a:t>ТЕМА УЧЕБНОГО ПРОЕКТА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ГРАФИКИ ФУНКЦИЙ</a:t>
            </a:r>
            <a:br>
              <a:rPr sz="3600"/>
            </a:br>
            <a:r>
              <a:rPr b="1" lang="ru-RU" sz="3200" spc="-1" strike="noStrike" u="sng">
                <a:solidFill>
                  <a:srgbClr val="03495c"/>
                </a:solidFill>
                <a:uFillTx/>
                <a:latin typeface="Century Schoolbook"/>
              </a:rPr>
              <a:t>ТВОРЧЕСКОЕ НАЗВАНИЕ ПРОЕКТА: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ФУНКЦИЯ РЯДОМ С НАМ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14400" y="5214960"/>
            <a:ext cx="617220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entury Schoolbook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Тарасова Оксана, 142 гр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4229640" y="61437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ыктывкар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4617b"/>
                </a:solidFill>
                <a:uFillTx/>
                <a:latin typeface="Century Schoolbook"/>
              </a:rPr>
              <a:t>АННОТАЦИЯ: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320" y="71388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 исследовании различных явлений и процессов природы, решении технических задач, изучении математики сплошь и рядом встречаются примеры изменения одной величины  в зависимости от изменения другой – так называемой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функциональной зависимости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нятие функциональной зависимости «как ни одно другое, воплощает в себе диалектические черты современного математического мышления; именно оно приучает мыслить величины в их живой изменчивости, а не в искусственно препарированной неподвижности, в их взаимной связи и обусловленности, а не в искусственном отрыве их друг от друга»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Данный проект предназначен для изучения темы "Графики функций" в 10 классе на уроках алгебры, который предполагает изучение детьми поведения функции и построение их графиков. Свободное владение техникой построения графиков часто помогает решать многие задачи, и порой является единственным средством их решения. Кроме того, умение строить графики функции представляет большой самостоятельный интерес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4" descr="I:\i.jpeg"/>
          <p:cNvPicPr/>
          <p:nvPr/>
        </p:nvPicPr>
        <p:blipFill>
          <a:blip r:embed="rId1"/>
          <a:stretch/>
        </p:blipFill>
        <p:spPr>
          <a:xfrm>
            <a:off x="6143760" y="5786280"/>
            <a:ext cx="133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571680" y="214200"/>
            <a:ext cx="792936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3495c"/>
                </a:solidFill>
                <a:uFillTx/>
                <a:latin typeface="Century Schoolbook"/>
              </a:rPr>
              <a:t>Основополагающи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Функция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математический портрет» закономерностей природы.  Так ли эт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571680" y="2143080"/>
            <a:ext cx="8001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3495c"/>
                </a:solidFill>
                <a:uFillTx/>
                <a:latin typeface="Century Schoolbook"/>
              </a:rPr>
              <a:t>Вопросы учебной 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именима ли функциональная зависимость в жиз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де используется функциональная зависимос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785880" y="5357880"/>
            <a:ext cx="650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3495c"/>
                </a:solidFill>
                <a:uFillTx/>
                <a:latin typeface="Century Schoolbook"/>
              </a:rPr>
              <a:t>Учебный предмет:</a:t>
            </a:r>
            <a:r>
              <a:rPr b="0" lang="ru-RU" sz="1800" spc="-1" strike="noStrike">
                <a:solidFill>
                  <a:srgbClr val="03495c"/>
                </a:solidFill>
                <a:latin typeface="Century School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алгеб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3495c"/>
                </a:solidFill>
                <a:uFillTx/>
                <a:latin typeface="Century Schoolbook"/>
              </a:rPr>
              <a:t>Участники:</a:t>
            </a:r>
            <a:r>
              <a:rPr b="0" lang="ru-RU" sz="1800" spc="-1" strike="noStrike">
                <a:solidFill>
                  <a:srgbClr val="03495c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0 – е 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428760" y="428760"/>
            <a:ext cx="82864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3495c"/>
                </a:solidFill>
                <a:uFillTx/>
                <a:latin typeface="Century Schoolbook"/>
                <a:ea typeface="Tahoma"/>
              </a:rPr>
              <a:t>Дидактические цели проекта: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бщить понятие функциональной завис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ссмотреть конкретный способ задания функции, а именно графический спос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учить находить и видеть функциональную зависимость в жизни, то есть как и где применяетс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ь понять, что функциональная зависимость и ее графическое представление вокруг н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714240" y="285840"/>
            <a:ext cx="78584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3495c"/>
                </a:solidFill>
                <a:uFillTx/>
                <a:latin typeface="Century Schoolbook"/>
              </a:rPr>
              <a:t>Этапы проведения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дготовительный эта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Мозговой штурм» (Выбор творческого названия проекта (совместно с учащимися), формирование тем исследований учеников) – 1 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уждение индивидуального плана работы учащихся – 2 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уждение со школьниками возможных источников информации, вопросов защиты авторских прав – 3 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тап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ультации по выполнению упражнений самостоя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рка домашнего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ключительный эта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ение на защиту самостоятельных исследований (2 уро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уждение результатов проекта. Поощрение лучших работ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4617b"/>
                </a:solidFill>
                <a:uFillTx/>
                <a:latin typeface="Century Schoolbook"/>
                <a:ea typeface="Tahoma"/>
              </a:rPr>
              <a:t>РЕЗУЛЬТАТЫ ПРЕДОСТАВЛЕНИЯ ИССЛЕДОВАНИЯ:</a:t>
            </a: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зент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ук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исок использованных материа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4617b"/>
                </a:solidFill>
                <a:uFillTx/>
                <a:latin typeface="Century Schoolbook"/>
              </a:rPr>
              <a:t>КОНТАКТНАЯ ИНФОРМАЦИЯ: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Tahoma"/>
              </a:rPr>
              <a:t>Тарасова Оксана Аркадьевн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Tahoma"/>
              </a:rPr>
              <a:t>Тел: 20-19-3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ahoma"/>
              </a:rPr>
              <a:t>E-mail: shishkogryz@gmail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1"/>
          <p:cNvSpPr/>
          <p:nvPr/>
        </p:nvSpPr>
        <p:spPr>
          <a:xfrm>
            <a:off x="-702720" y="2143080"/>
            <a:ext cx="109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3495c"/>
                </a:solidFill>
                <a:latin typeface="Monotype Corsiva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7:50:37Z</dcterms:created>
  <dc:creator>Оксана</dc:creator>
  <dc:description/>
  <dc:language>en-US</dc:language>
  <cp:lastModifiedBy>Оксана</cp:lastModifiedBy>
  <dcterms:modified xsi:type="dcterms:W3CDTF">2010-05-27T07:31:32Z</dcterms:modified>
  <cp:revision>39</cp:revision>
  <dc:subject/>
  <dc:title>Тема учебного проекта: Графики функций</dc:title>
</cp:coreProperties>
</file>